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D5F-4AC2-4D26-B03F-1EB0A369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B14-A304-45C3-BFD7-F9A0226D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808-8DAA-4EBD-BBB7-CFED9399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D08-6FB1-4185-ABC5-F5FBC6E1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717-88A2-40C0-B2FA-341F5A7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9DC-9DDE-4680-9484-2E391DD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8AE-5C3D-439D-9B8E-4480E71E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A6E-D354-44E0-9B51-E4D2E944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7B9-AD56-4A40-A2D6-A0225854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A0A-A4D5-4274-ACC8-9A8C9AE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A5C-FE94-4945-AE72-AE96D9E9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BA0-7E80-4C61-989B-31516880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F16F-6853-432C-B1A5-AFC8AD594A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 Emergenc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5105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vision of Emergency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40040" y="1981080"/>
            <a:ext cx="2346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ddle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160" y="1219320"/>
            <a:ext cx="5867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us Otitis Media - Eustachian tube dysfunction - treat with decongestants, decompressive maneu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itis Media - infection of middle ear effusion - viral and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oiditis - Venous connection with brain, need aggressive treatment (can lead to brain abcess or mening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81760" y="1219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7760" y="1676520"/>
            <a:ext cx="1876320" cy="148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223040" y="3524400"/>
            <a:ext cx="1860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ner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560" y="1847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vertigo (vestibulopa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V, labyrhinth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cute onset, no central signs, usually young, horizontal nystag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iere’s - vertigo, sensorineural hearing loss, tinn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alium, fluids, rest, manipulation for BP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847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cula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erior - branches of in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osterior - distal branches of ex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75160" y="1752480"/>
            <a:ext cx="55818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% (Little’s Area) Kisselbach’s plexus - usually children, young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, epistaxis digit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ter Syndrome, Aller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 - cocaine,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Pos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of all epistaxis - usually in the el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roscle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ension (deba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eds, lower BP, calm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! (gown, mask, suction, speculum, meds and packing rea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c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 vasoconstrictor and anes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20001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erior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essure +/- cautery and/or tamp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l packs require antibiotic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86400" y="1676520"/>
            <a:ext cx="2533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erior Pac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nalgesia and se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dmission and 02 saturation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67560" y="1676520"/>
            <a:ext cx="1790640" cy="2685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4514760"/>
            <a:ext cx="35622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11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ia, hyperca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usitis, otitis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sis of the columella or nasal 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7th Nerve Pals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467000"/>
            <a:ext cx="567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are idiopath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ink to HS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 proof steroids or antivirals are effective, but many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Lyme’s Disease in edemic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decompression indicated in the rare patient not improving by 2 weeks and ENOG out &gt;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81760" y="1371600"/>
            <a:ext cx="370836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ologic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al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ial, Oral and Pharyngeal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rway Obstr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/A, facial pain in sinus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urulent yellow-green rhino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T more sensitive than plain fil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usative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ram positives and H. flu (acu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aerobes, gram neg (chron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72480" y="1219320"/>
            <a:ext cx="2423880" cy="2703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02360" y="4114800"/>
            <a:ext cx="236556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57150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- amoxil, sep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- amoxil-clavulinic acid, clindamycin, quinol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gestants, analgesia,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moid sinusitis - orbital cellulits and ab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al sinusitis - may erode bone (Potts Puffy Tumor, Brain Ab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24480" y="2000160"/>
            <a:ext cx="34196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Cellul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strept and stap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H.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rogress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05360" y="1676520"/>
            <a:ext cx="3876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otid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3080" y="16192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vi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ramyxo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lderly, immunosup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ssociated with 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ver - Staph, anae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58080" y="1676520"/>
          <a:ext cx="305100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1676520"/>
                    <a:ext cx="30510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ryng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200016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flux, trauma,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BV, aden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GABHS, mycoplasma, gonorrhea, dipth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53160" y="1905120"/>
            <a:ext cx="32767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itonsillar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 of suppurative tonsil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 - medial displacement of tonsil and uv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phagia, ear pain, muffled voice, fever, tr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tibiotics, I&amp;D, +/-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41008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incidence in children secondary to HIB vac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rapid, patients look tox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er to sit, muffled voice, dysphagia, drooling, re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58080" y="2635200"/>
            <a:ext cx="38001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g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visualization if patient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 of 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umb print, valecula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or emergent airway, best achieved in a controlle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syn, +/- 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76840" y="1940040"/>
            <a:ext cx="3952800" cy="407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0280" y="1649520"/>
            <a:ext cx="3200400" cy="429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14960" y="6156360"/>
            <a:ext cx="17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tropharyngeal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to prevertebral space and posterior to phary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children under 4 (lymphoid tissue in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, dysphagia, dyspnea,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 of retropharyngeal space on lateral 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- mediast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9240" y="1676520"/>
            <a:ext cx="437364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ologic Disord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40" y="1695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r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mpanic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ear and mastoi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2960" y="1600200"/>
            <a:ext cx="5664240" cy="466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24160" y="2057400"/>
            <a:ext cx="259092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9080" y="2514600"/>
            <a:ext cx="373356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440" y="35812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7680" y="4952880"/>
            <a:ext cx="43434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5791320"/>
            <a:ext cx="5943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724960" y="4190760"/>
            <a:ext cx="0" cy="1600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3640" y="3733920"/>
            <a:ext cx="449604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sticator - Parapharyngeal Space Inf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4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lower molars invade masticato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, pain fever, T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tibiotics (PCN or Clindamyc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00880" y="1828800"/>
            <a:ext cx="425736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UG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cute Necrotizing Ulcerative Gingiv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177156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 causing an acute necrotizing, destructive disease of periodon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al ri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ibiotics (PCN, clindamycin, tetracyc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02400" y="1735200"/>
          <a:ext cx="443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2400" y="1735200"/>
                    <a:ext cx="443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udwigs Angi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progressive cellulitis of the floor of the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elderly debilitated patients and precipitated by dental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swelling with impending airway ob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, antibiotics, airwa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96216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640" y="16956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ssionally life threa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iditary and related to ACE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histamines, steroids and doxe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1860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irway Obstr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honia - 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 - in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ezing - in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breath sounds- 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 and Answe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29120" y="1676520"/>
            <a:ext cx="2670120" cy="43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tic Disorders of the 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695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mat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rtilaginous 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ain, antibiotics, bulky ear dressing close follow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cer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ingle layer closure, pick up perichondrium, bulky ear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posterior auricular block for an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83240" y="1981080"/>
            <a:ext cx="35654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360" y="1676520"/>
            <a:ext cx="10106280" cy="4486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piration of Auricular Hemato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080" y="1523520"/>
            <a:ext cx="4496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ondritis - Cellulit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ectious, difficult to treat because poor blood supply, cover S. Aureus and 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ra care in diab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lammatory causes related to seronegative arthritis at times indistinguishable from infection usually the ear lobe is sp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62440" y="1676520"/>
            <a:ext cx="2743200" cy="418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91320" y="1676520"/>
            <a:ext cx="2640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itis Exter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and inflammation caused by bacteria (pseudomonas, staph), and fun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reat with antibiotic-steroid d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wick for tight ca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abetics can get malignant otitis externa (defined by the presence of granulation t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34040" y="2014560"/>
            <a:ext cx="38005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eign Bodies in Ear Can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1847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ut in by patient, some bugs fly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bugs with mineral oil, or lidoc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ith forceps, suction or tissue adhe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7400" y="1981080"/>
            <a:ext cx="360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mpanic Membrane Perfor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 see – Hx of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from middle ear pressure secondary to fluid or baro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from external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eal uneventfully but all need otology follow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fs with vertigo and facial nerve involvement need immediate refer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with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s controversial but indicated for purulent discharge (avoid gentamycin dr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58080" y="1752480"/>
            <a:ext cx="3886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2:43:14Z</dcterms:created>
  <dc:creator>Dr. Quinn</dc:creator>
  <dc:description/>
  <cp:keywords/>
  <dc:language>en-US</dc:language>
  <cp:lastModifiedBy>Steinhart Rachel</cp:lastModifiedBy>
  <cp:lastPrinted>2009-04-22T19:24:48Z</cp:lastPrinted>
  <dcterms:modified xsi:type="dcterms:W3CDTF">2009-01-17T22:31:36Z</dcterms:modified>
  <cp:revision>42</cp:revision>
  <dc:subject/>
  <dc:title>ENT Emergencies</dc:title>
</cp:coreProperties>
</file>